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6DFF-10B7-4AE9-B61D-18B4E53F8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656C-47AB-4537-9E3A-64D03051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3F4D-C0A5-4B97-A1D6-AD91FA0EB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85DB-1B7A-4258-92D1-9E0E9EA19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7E53-BB88-4BF7-B7C3-CF0E190C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9FAC-6B40-40AB-93A4-AEB35667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85E5-D710-490E-83AC-A8A0BDEA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BACC-B263-4A89-B3D5-026B8319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47B0-882A-4D17-927E-F882F329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4C34-CAEB-4DBF-B1FB-EBC231E9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40C7-92C9-4C08-AFD3-6C0DDB7B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76D3-4B90-404A-9043-E6AE274B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7853-9CEC-4D2B-99A5-EBC2FDF3431B}" type="slidenum">
              <a:rPr b="0" lang="en-I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Planning the writing – 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outline sections of the paper/main messa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898989"/>
                </a:solidFill>
                <a:latin typeface="Calibri"/>
              </a:rPr>
              <a:t>Kath Bennet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3"/>
          <p:cNvGrpSpPr/>
          <p:nvPr/>
        </p:nvGrpSpPr>
        <p:grpSpPr>
          <a:xfrm>
            <a:off x="85680" y="115920"/>
            <a:ext cx="1965240" cy="865080"/>
            <a:chOff x="85680" y="115920"/>
            <a:chExt cx="1965240" cy="865080"/>
          </a:xfrm>
        </p:grpSpPr>
        <p:pic>
          <p:nvPicPr>
            <p:cNvPr id="44" name="Picture 5" descr="http://research.ncl.ac.uk/media/sites/researchwebsites/rescapmed/EUlogo.jpg"/>
            <p:cNvPicPr/>
            <p:nvPr/>
          </p:nvPicPr>
          <p:blipFill>
            <a:blip r:embed="rId1"/>
            <a:stretch/>
          </p:blipFill>
          <p:spPr>
            <a:xfrm>
              <a:off x="85680" y="115920"/>
              <a:ext cx="99252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7" descr="http://research.ncl.ac.uk/media/sites/researchwebsites/rescapmed/FP7logo2.jpg"/>
            <p:cNvPicPr/>
            <p:nvPr/>
          </p:nvPicPr>
          <p:blipFill>
            <a:blip r:embed="rId2"/>
            <a:stretch/>
          </p:blipFill>
          <p:spPr>
            <a:xfrm>
              <a:off x="1258200" y="123840"/>
              <a:ext cx="792720" cy="85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5940360" y="109440"/>
            <a:ext cx="315432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Writing the Introdu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n the introduction you will need to do the following thing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present relevant background or contextual materi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define terms or concepts when necessar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explain the focus of the paper and your specific purpo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ink about how you would plan the paragraphs in the 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bo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Use your outline as flexible guid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Build your paper around points you want to m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ntegrate your sources into your discus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Summarize, analyze, explain, and evaluate published work rather than merely reporting 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Move up and down the "ladder of abstraction" from generalization to varying levels of detail back to generaliz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0000"/>
                </a:solidFill>
                <a:latin typeface="Calibri"/>
              </a:rPr>
              <a:t>What is known 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– state the general topic of the paper, background &amp; motiv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0000"/>
                </a:solidFill>
                <a:latin typeface="Calibri"/>
              </a:rPr>
              <a:t>What is unknown 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– Important 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Indicate your work is n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Links the known to the research ques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Example, ‘it is not yet known how obesity is linked to cancer….’ ‘To answer this question we conducted a cohort study of …..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0000"/>
                </a:solidFill>
                <a:latin typeface="Calibri"/>
              </a:rPr>
              <a:t>Your research question 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– Specific topic, follows known and unknown. Importance of research should be evid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Probably easiest place to 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How did you do the study? Plan out and describe what you did in detail. Order using subheadings (Design, setting, participants, etc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Include interventions used, instruments and measu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Get assistance with writing the statistical methods section if not familiar, or other expert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Plan what tables and/or figures to inclu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Only those pertinent to answering your research ques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Not too many, many journals have an upper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If only few data in a table then include in the 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Use sub-headings to plan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discussion/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Plan the paragraphs/subheadings of the discussion. Guidelines are avail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Start with summary with reference to objectives; strengths &amp; limitations, interpretation, im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Move from a detailed to a general level of consideration in concluding that returns the topic to the context provided by the introduc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Perhaps suggest further research that is requir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yramid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Using each section and each paragraph to support the main arg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Drafting ; re-read what you have writ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Do all sections link to the objectives of the researc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Does it tell a coherent stor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Is there anything missing? Are you fully up-to-date with the literatu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You need to start from sound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found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And finally the abstract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e abstract should be written last after the rest of the paper has been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 short summary that connects the  research question to the methods, results and final 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ncludes only relevant information to get the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key messages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cro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Make interesting – usually first (and only) part that some researchers read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 what to write: A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did I do in a nutshell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bstrac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is the problem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Introduc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How did I solve the problem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Materials and Method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did I find out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Resul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does it mean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Discuss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o helped me out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cknowledgments (optional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ose work did I refer to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Literature Cit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Extra Inform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ppendices (option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Do not start with the abstract (unless you had one prepared for a conference)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Literature review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e area thoroughly – for known and unknown information – leading into your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rite out the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research questions/aims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main messages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from the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do you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 conclude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RESEARCH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interesting about this question? Hook your readers with an interesting fact that might make them curious about this topi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ITERATURE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Find articles that support or refute your findings. List the main points from these and any strengths and limitations of th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NALYSIS OF LITER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ist the main ideas, findings from these studies. What makes them the same or different to what you propose?, and why are they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What is known about the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What is unknown, where are the gap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ORIGINAL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original about your research? Why is better than what has gone befo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ist the main findings and messages that you would like to get acros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the answer to your research question posed at the st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the most likely explanation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are the implications of thi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Writing an Outline for Yourself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Consider the following question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the topic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y is it significa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background material is releva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my purpose stateme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organizational plan will best support my purpos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6T15:50:07Z</dcterms:created>
  <dc:creator>Kathleen Bennett</dc:creator>
  <dc:description/>
  <dc:language>en-US</dc:language>
  <cp:lastModifiedBy>Licenced User</cp:lastModifiedBy>
  <dcterms:modified xsi:type="dcterms:W3CDTF">2014-09-18T15:33:38Z</dcterms:modified>
  <cp:revision>11</cp:revision>
  <dc:subject/>
  <dc:title>Planning the writing –   outline sections of the paper/main messages</dc:title>
</cp:coreProperties>
</file>